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EF8C-B0F5-4F13-8F7D-F0DB364C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3574-ABFC-4BF8-8B29-4F7D4750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FEC1-A56F-4B8C-A851-902128236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DEC2-6C14-4039-B19F-EC0508A2A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D3D1-1943-4C98-82E8-2018AF3E9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1E74-778B-452B-B87C-D738FD07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6DC7-7F1A-4B82-9E9A-1B12F950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F447-83A9-4A32-A2ED-B0BC61D8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5A73-CA03-4043-8C76-F9D5A748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1B05-E299-4B7A-9468-6C817600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04D9-A97F-4AFE-A94F-24CAE115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7109-D8D2-4D81-AACC-B6E97897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FBF9-278B-43F9-81C9-A5EC3537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D951-8034-4F92-9723-CD31BE50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5956-A515-4573-988E-2693593B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8474-9CEA-41B5-BED3-752583105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6ECB-DD77-47E3-A298-47A384C59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9348-28BB-4353-B742-F925518D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43AE-F9AE-4236-97F3-F7984BB0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3100-ADAF-446F-B6A4-9EFFB55E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FC4E-D6A3-4E33-A894-ED46A67A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CB7D-D50A-4CD4-ADF6-CC63BC16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CEC1-10DE-4E23-A2CC-92246102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E737-33D3-4551-82C7-E4645BCE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0CDA-3850-49D6-ABE8-CD80BDAE167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49F8-3E46-49F7-AD70-76C6CC6FE0B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第十章  国际资本流动与国际金融市场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International capital flow &amp; International financial marke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第三节  离岸金融市场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、离岸金融市场的概念与类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概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类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二、离岸金融市场的形成与发展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三、离岸金融市场的特点和金融工具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离岸金融市场的特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离岸金融市场的金融工具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存款工具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贷款方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四、离岸金融市场对世界经济的影响及发展趋势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离岸金融市场对世界经济的影响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离岸金融市场发展趋势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第一节  国际资本流动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一、国际资本流动的含义与类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一）国际资本流动的含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含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考察国际资本流动可以从五个方面入手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从资本流动方向来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从资本流动规模来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从资本流动的类型来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从资本流动性质来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从资本流动方式来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（二）国际资本流动的类型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长期资本流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直接投资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间接投资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国际借贷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短期资本流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贸易资金流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银行资金流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保值性资本流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投机性资本流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二、国际资本流动理论 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一）关于国际资本流动原因的理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完全竞争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产品生命周期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生产的内在化理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生产的折中理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垄断优势理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二）关于国际资本流动的效果与影响的理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般理论模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双缺口理论模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雷布金斯基原理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第二节  国际金融市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一、国际金融市场概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一）国际金融市场概念与类型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金融市场概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金融市场类型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传统的国际金融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新型的国际金融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二）国际金融市场形成的条件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金融市场所在地必须有较为稳定的经济和政治环境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金融市场需要有宽松的金融政策与优惠措施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金融市场需要有完善的金融市场结构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金融市场需要具备良好的地理条件、拥有完善的国际通讯设施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三）国际金融市场的形成与发展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伦敦金融市场的形成与衰落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纽约金融市场兴起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离岸金融市场的形成与发展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二、货币市场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一）定义：期限在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年以内的短期资金借贷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二）货币市场的分类（按照资金融通形式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银行短期信贷市场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短期证券市场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国库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可转让银行定期存单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银行承兑汇票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商业票据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贴现市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三、资本市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一）定义：期限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年以上的长期资金市场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二）资本市场分类（按照贷款方式的不同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银行中长期贷款市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中期贷款：国际惯例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-5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年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长期贷款：国际惯例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年以上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中长期贷款运作方式（见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130-131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证券市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政府债券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企业证券（公司债券、公司股票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四、外汇市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一）外汇市场综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外汇市场定义： 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广义的外汇市场；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狭义的外汇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外汇市场的形式（从交易情况划分）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无固定交易场所的外汇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有固定交易场所的外汇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二）外汇市场的组成机构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外汇银行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外汇经纪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中央银行等政府管汇机构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其他，如跨国公司、投机商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三）世界主要外汇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伦敦外汇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纽约外汇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苏黎世外汇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五、黄金市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一）黄金市场简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五大黄金交易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黄金市场种类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按照交割期限划分：现货交易市场和期货交易市场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按照管制程度划分：自由交易市场和限制交易市场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二）黄金市场的结构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三）黄金市场的交易方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现货交易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期货交易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四）世界主要黄金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伦敦，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苏黎世，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香港，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新加坡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4T02:50:17Z</dcterms:created>
  <dc:creator>MS User</dc:creator>
  <dc:description/>
  <dc:language>en-US</dc:language>
  <cp:lastModifiedBy>Dell</cp:lastModifiedBy>
  <dcterms:modified xsi:type="dcterms:W3CDTF">2021-08-23T22:46:23Z</dcterms:modified>
  <cp:revision>17</cp:revision>
  <dc:subject/>
  <dc:title>第四章  国际资本流动与国际金融市场</dc:title>
</cp:coreProperties>
</file>